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55CB-29A1-446F-9608-CE6C4030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96F6-82F8-4381-871F-47436E81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6E17-33DF-41B5-B4A5-C47D15CF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07D3-C7B9-47CA-B416-04309D4D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6C3F-44A4-4706-B88B-98C5C366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F4DD-5EF9-4F85-AEF5-F0E31FC8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BA8D-2355-4191-B5FA-2F656288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2509-39B3-46C4-BFF5-9C68DCC4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C00F-D7B0-49AE-BA04-797A7BBC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66FA-8024-4AA3-A8CF-BD93EF56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449F-E3FC-4697-A1A2-5681488C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4805-5B17-4155-B3FD-24430A9B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BF01-ACD4-4F07-8A21-2D9699AF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075F-576B-4FFB-9FF3-C481AF84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51C5-D14A-4569-B31B-16B1D997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CDEC-28A5-46FE-BECF-A9B612B0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5E9B-5D39-4F68-ADE7-C8AC0DF5B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22B0-9ED5-446A-9C23-D9DBF6E9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073C-B798-4234-8C27-A1CA3606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06A5-4593-43C0-8445-223CFE05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99DA-A952-4FC9-B90F-BDD573F4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0677-1898-4EA9-9C09-BF9A3A77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6951-FBC6-4E4A-B33C-9AD73895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CDE9-0EAB-4B4C-9698-D8DAC603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7575-916D-42F3-945D-FCFFB8DC575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49F2-B607-49AC-A31A-231844DB769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rategies for improving completion rat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tivating Assign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corporate a cau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 students an audi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hero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corporate cultural produc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ow choi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students create assign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ther Strateg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all students turn in a pap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grate two clas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students determine assess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Students present homewor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del Quality Wor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t student work on an overhea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ssessing Homewor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roups- Talk the subje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member ultimate goal- mastery of content and skills- Real worl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do Homework????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nior craftsm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ltimate go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andard of excell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mework and our Resour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the web si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list the help of par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er tuto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ffer hel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ood Luck!!!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8960" y="1600200"/>
            <a:ext cx="3809880" cy="44956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ructuring Homewor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mart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lleng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sed on student interes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clude med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rpose of Homewor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actice, practice, practice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hieve mast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assign homework when  students do not have a clear understanding. This will do more harm then goo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kloa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homework challenging, but not overwhelm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avy workload leads to procrastin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eedbac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t is key to give students immediate feedback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udents are more likely to do homework when they receive feedback within a day or tw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so has a greater impact on learn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ype of Assign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more engaging the assignment the more likely it will be don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reak up the rout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nefits teachers as wel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nique Assign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view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wor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usi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ram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d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student examples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crease Complex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udents are more likely to complete complex assignmen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raw the meaning of vocabulary wor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eate 10 questions which the answer is “conflict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eate a commercial that promotes the benefits of healthy eat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gher Level of Question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k students to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pp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are/contra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alyz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valu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pin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17:13:10Z</dcterms:created>
  <dc:creator>Barbara</dc:creator>
  <dc:description/>
  <dc:language>en-US</dc:language>
  <cp:lastModifiedBy>North Rockland Schools</cp:lastModifiedBy>
  <dcterms:modified xsi:type="dcterms:W3CDTF">2007-11-02T11:59:09Z</dcterms:modified>
  <cp:revision>3</cp:revision>
  <dc:subject/>
  <dc:title>Homework</dc:title>
</cp:coreProperties>
</file>